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Click to move the slide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85BA-0515-4B9A-AC12-3A6658D9A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8681-BDEE-4395-9982-E89E99CB40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0DD9-8516-4875-AC1A-D8C61B10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1C60-0612-4CCE-8FC4-4B92ECCF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7710-05C8-4260-A854-4ABDBAA3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BFF9-949E-4436-B134-9429AB66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04C9-9896-4CB7-92EE-1BE7E43E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B1CF-89CD-4985-A64F-DDEDC062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2F2E-A954-4C8F-BBC6-52547611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18CB-62F9-41CA-919E-A72CF111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608C-EFFA-45C6-9279-F1E93392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B12C-E02A-42CB-BB0D-F7BA55C9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1C8E-7EF6-4E14-A911-24C4DCA3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A64A-A387-458E-BBB6-EEED81EB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0A34-CA76-437E-B7E4-0FB52275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7783-E881-4E1F-8568-0ADD5F2F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71FF-708A-4AF2-A633-609177DC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0BE7-65B0-439F-8E02-2ECB391A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3D77-12AC-4FCF-BD9E-017883B7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685E5B-E005-4097-89ED-F1116CE2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F4EB36-5D7D-49D1-89CE-D6531182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08B4A-6965-464A-A277-5D4BE245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E03260-3400-4504-9DC6-BB189F85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6FDEC-5ABE-419A-9B3F-F0449E4E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30AF-4789-4BAC-B187-12763CC1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20534-DB61-4CE5-AD95-20DA8206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366F47-A651-4D52-9A61-5707FC54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E8318-7555-43DA-A232-CF4B5C1B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9EE06-FF7C-4B55-B47F-0E3B4B28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4C9586-D3C2-4DF1-818A-00926935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A6086-8AF6-4C0D-A73A-2F608D7C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78A80-FBC4-4475-A52A-2D4CBB5E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495C9-DC05-4A2A-9CBD-8D62496F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E5FCB-AD90-49CC-B341-BFD7E4D5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7557C-BE1C-455F-AD86-8F83B659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E2AD-8DD5-4EAB-9714-413D8A14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44464-94A4-40D3-9894-609F661A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2F9A0-9FFE-4CA4-9941-5E6D07F0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ABDB8-3EAD-4C3B-9AE9-F6DD2A62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B1565-34D9-4CEF-A8B3-C7A6C26E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D2AF3-7984-4266-ABEA-6993AE1C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1A5BF-603D-41B9-A02D-ED431D17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84A4F-0FF1-47B3-B59C-625D35F6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7A45A-B156-4DE9-B93E-D189FD23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EB67E-F808-4667-B7DB-A96152AA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33DEE5-8B51-4BF9-A5D1-610A87F8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23FB-F657-4C66-857A-CDBBDE3F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5118CE-B633-49B7-90DE-A181D763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6A7F8F-2647-496D-8FFC-2E9AC53C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AD7B91-D243-4FAE-8403-9D824923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BB05B4-E542-45F8-B6A6-B1AE9A8F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FFDC54-5551-4B06-9FA5-61602811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06206E-F2E6-4D44-B7BD-FB271EE8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866B25-A312-47CA-957F-62AAF22A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5B91FB-FF8C-4400-985B-77298EDD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3AFD28-713B-4867-BD23-CD226D61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3363DD-C246-4157-9223-CBDE66B6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8616-458F-46F7-BD31-7153F9E6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90176A-4F7F-48E3-9E2B-897AAC72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E5A72D-D366-4540-AFD5-EE4483F2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D7FC05-319A-463E-86CB-9227F04F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F31D3B-7AA2-4998-BA47-1E386364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9F4639-3ADB-4E5A-9183-BAA2203F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F5F662-3B6A-4A53-B593-926E91B8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FCC8F8-2D08-4947-B2BD-E1C19833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A81FEE-A0A8-4923-894F-890361CA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B9AC93-9477-4A31-962A-5B87EF30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AA7ED0-2721-4D31-8EA0-55D981DD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0D0B-C340-4863-AA81-07D9ACA3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DB8A23-741B-4D92-9E4F-AE8EA9C2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8C2745-C7E0-48A4-A2D3-C2EB442F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DC185D-5F46-49E3-9F0E-4C8C15D6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7A9899-B520-42ED-A4E7-D7EC25BE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D02169-39BA-4603-83C3-15181C0E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C10315-29EF-45D6-BA68-2091BA89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8942D3-E3F7-44FA-B0E0-56175944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28445E-DA97-49C7-90E0-A6A01171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0AEF91-3859-411E-83C2-20281B86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C51172-80C1-45F9-B9B8-8B91CA87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8922-240C-4584-8002-4CCC24D5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6E061A-E669-4F13-82FB-10CC1AC3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B76A86-E0CE-4B8E-97D3-EAE7D71F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44238F-1AAB-4762-9AC5-B8FB4E44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CF7499-DCB4-4000-8F1D-B24AC51E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8FFBA0-B9A6-4EEA-8D4B-8B761CA3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DA02-0C70-477C-A549-908A70F4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4B6B-8E70-4BF0-BCF7-39F1D3FDAE1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96E7-B111-441E-B38B-65FED2EF4E2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39AB-6688-4DA3-8618-3BB7B216E7E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CCF0-04BB-4E08-932D-ADCF71CB831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6707-EDEA-4865-A5A9-520B0EDBB28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54C1-4589-4348-91F3-A4A98743A5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7E60-5BDA-4596-A0AE-B189ED8F0FD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hptv.org/natureworks/nwep8b.htm" TargetMode="External"/><Relationship Id="rId3" Type="http://schemas.openxmlformats.org/officeDocument/2006/relationships/hyperlink" Target="http://buzzle.com/articles/taiga-biome-taiga-animals-and-plants.htm" TargetMode="External"/><Relationship Id="rId4" Type="http://schemas.openxmlformats.org/officeDocument/2006/relationships/hyperlink" Target="http://mbgnet.mobot.org/" TargetMode="External"/><Relationship Id="rId5" Type="http://schemas.openxmlformats.org/officeDocument/2006/relationships/hyperlink" Target="http://blueplantsbiomes.org/world_biomes.htm" TargetMode="External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d6ecff"/>
                </a:solidFill>
                <a:latin typeface="Century Gothic"/>
              </a:rPr>
              <a:t>TAIGA</a:t>
            </a:r>
            <a:endParaRPr b="0" lang="en-US" sz="96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4952520"/>
            <a:ext cx="61722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ecff"/>
                </a:solidFill>
                <a:latin typeface="Century Gothic"/>
              </a:rPr>
              <a:t>By Anushka Siewrattan, Kerry McCloskey, and Alyssa Martin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477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Century Gothic"/>
              </a:rPr>
              <a:t>TEMPERATURE AND PRECIPITATION</a:t>
            </a:r>
            <a:endParaRPr b="0" lang="en-US" sz="32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0520" y="1143000"/>
            <a:ext cx="3505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The average temperature is 0°C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The average precipitation is 100-200 cm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The taiga is warmer and wetter than a tundr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The taiga has long, severe winters and short, mild summers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Fall is the shortest season in the taig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Flowers grow in spring and many of the animals come out of hibernation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Summer is a very rainy season in the taig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4038480" y="685800"/>
            <a:ext cx="4133880" cy="5505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dgrd.jpg"/>
          <p:cNvPicPr/>
          <p:nvPr/>
        </p:nvPicPr>
        <p:blipFill>
          <a:blip r:embed="rId3"/>
          <a:stretch/>
        </p:blipFill>
        <p:spPr>
          <a:xfrm>
            <a:off x="304920" y="6248520"/>
            <a:ext cx="3110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HUMAN IMPACT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560" y="8380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uman Impact on the taiga is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Acid rain due to pollution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Burning of fossil fuels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Power plants and factories burn coal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The trees get poisoned and lose nutrients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Global warming; organisms have trouble adapting to different climates 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4" name="Picture 5" descr="http://bioweb.uwlax.edu/bio203/s2009/nelson_lau4/Picea_glauca_taiga.jpg"/>
          <p:cNvPicPr/>
          <p:nvPr/>
        </p:nvPicPr>
        <p:blipFill>
          <a:blip r:embed="rId1"/>
          <a:stretch/>
        </p:blipFill>
        <p:spPr>
          <a:xfrm>
            <a:off x="1219320" y="3657600"/>
            <a:ext cx="6400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ecff"/>
                </a:solidFill>
                <a:latin typeface="Century Gothic"/>
              </a:rPr>
              <a:t>PLANTS IN THE TAIGA</a:t>
            </a:r>
            <a:endParaRPr b="0" lang="en-US" sz="4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28240" y="837720"/>
            <a:ext cx="4800600" cy="586764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Harsh climate and environmental conditions make it hard for plants to survive in the biom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1. Black Spruc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400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ost common plant in Taiga because of its ability to grow in poor soil and cold climate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400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Can reach a height of about 25 meter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400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he tree branches are moderately shorter than other conifer tree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400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he black spruces needles are sharp and are about half an inch long with four sides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400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he bark is rough, thick and gray-brown in color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400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he pinecones of spruce are a major food for the birds in Taiga biome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7" name="Picture 2" descr="http://www.biologyreference.com/images/biol_02_img0178.jpg"/>
          <p:cNvPicPr/>
          <p:nvPr/>
        </p:nvPicPr>
        <p:blipFill>
          <a:blip r:embed="rId2"/>
          <a:stretch/>
        </p:blipFill>
        <p:spPr>
          <a:xfrm>
            <a:off x="5105520" y="914400"/>
            <a:ext cx="3525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380880"/>
            <a:ext cx="4114800" cy="609624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2. Balsam Fir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45720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Balsam fir is a medium-sized; grows up to the height of 80 fee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45720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hallow roots that hardly reach 35 inch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45720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e branches grow at the right angle off the trunk of the tree, the lower branches are mostly dead and droop onto the ground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45720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e barks of the tree are resinous, smooth and gray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45720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Major food supplier for deer, moose, squirrels and other inhabitants in cold winter months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9" name="Picture 2" descr="http://www.fairplains.com/images/Balsam-Fir.jpg"/>
          <p:cNvPicPr/>
          <p:nvPr/>
        </p:nvPicPr>
        <p:blipFill>
          <a:blip r:embed="rId1"/>
          <a:stretch/>
        </p:blipFill>
        <p:spPr>
          <a:xfrm>
            <a:off x="4648320" y="609480"/>
            <a:ext cx="327636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609480"/>
            <a:ext cx="4038480" cy="594360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3. Jack Pin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Grows to about 27 meters tall, the base almost similar to the height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Young jack pines have reddish colored barks, older jack pines have gray barks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e branches are long, slender that bear needle leaves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It is found in cold regions of the taiga that have sandy soils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Leaves and pinecones are used as food for the rodents and other animals inhabiting the biome</a:t>
            </a:r>
            <a:br>
              <a:rPr sz="1900"/>
            </a:b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1" name="Picture 2" descr="http://www.blueplanetbiomes.org/images/jack_pine.jpg"/>
          <p:cNvPicPr/>
          <p:nvPr/>
        </p:nvPicPr>
        <p:blipFill>
          <a:blip r:embed="rId1"/>
          <a:stretch/>
        </p:blipFill>
        <p:spPr>
          <a:xfrm>
            <a:off x="4724280" y="685800"/>
            <a:ext cx="26672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ecff"/>
                </a:solidFill>
                <a:latin typeface="Century Gothic"/>
              </a:rPr>
              <a:t>QUESTIONS ABOUT TAIGA</a:t>
            </a:r>
            <a:endParaRPr b="0" lang="en-US" sz="4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142640"/>
            <a:ext cx="7467480" cy="502596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areas of the world is the taiga biome located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y is it so difficult for plants to survive in the taiga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is the most common plant in the taiga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me areas of the taiga have a permafrost. What is a permafrost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ow is global warming affecting the biotic factors in the taiga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is the average temperature and precipitation in the taiga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economical values lye in the taiga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467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Century Gothic"/>
              </a:rPr>
              <a:t>COMMERCIAL VALUES OF THE TAIGA</a:t>
            </a:r>
            <a:endParaRPr b="0" lang="en-US" sz="32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0880" y="838080"/>
            <a:ext cx="74678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conomic values are from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Taigas have a lot of trees which is cut down for lumber, toilet paper, copy paper, and newsprint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More then 80% of taiga products are exported from Canada and sold in America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People hunt and fish in taiga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There is diamond mining and coal mining in some regions of taiga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2362320" y="3809880"/>
            <a:ext cx="47624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6ecff"/>
                </a:solidFill>
                <a:latin typeface="Century Gothic"/>
              </a:rPr>
              <a:t>WORKS CITED</a:t>
            </a:r>
            <a:endParaRPr b="0" lang="en-US" sz="26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0880" y="11430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ooks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Biology- Dynamics of Life (National Geographic)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Biology- The Sixth Edition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ebsites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eb8803"/>
                </a:solidFill>
                <a:uFillTx/>
                <a:latin typeface="Century Gothic"/>
                <a:hlinkClick r:id="rId2"/>
              </a:rPr>
              <a:t>http://Nhptv.org/natureworks/nwep8b.htm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eb8803"/>
                </a:solidFill>
                <a:uFillTx/>
                <a:latin typeface="Century Gothic"/>
                <a:hlinkClick r:id="rId3"/>
              </a:rPr>
              <a:t>http://Buzzle.com/articles/taiga-biome-taiga-animals-and-plants.htm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eb8803"/>
                </a:solidFill>
                <a:uFillTx/>
                <a:latin typeface="Century Gothic"/>
                <a:hlinkClick r:id="rId4"/>
              </a:rPr>
              <a:t>http://mbgnet.mobot.org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eb8803"/>
                </a:solidFill>
                <a:uFillTx/>
                <a:latin typeface="Century Gothic"/>
                <a:hlinkClick r:id="rId5"/>
              </a:rPr>
              <a:t>http://blueplantsbiomes.org/world_biomes.htm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Century Gothic"/>
              </a:rPr>
              <a:t>THE TAIGA…</a:t>
            </a:r>
            <a:endParaRPr b="0" lang="en-US" sz="3600" spc="-1" strike="noStrike">
              <a:solidFill>
                <a:srgbClr val="d6ecff"/>
              </a:solidFill>
              <a:latin typeface="Century Gothic"/>
            </a:endParaRPr>
          </a:p>
        </p:txBody>
      </p:sp>
      <p:pic>
        <p:nvPicPr>
          <p:cNvPr id="361" name="Picture 2" descr="http://www.cas.vanderbilt.edu/bioimages/ecoregions/w50607taiga3506.jpg"/>
          <p:cNvPicPr/>
          <p:nvPr/>
        </p:nvPicPr>
        <p:blipFill>
          <a:blip r:embed="rId1"/>
          <a:stretch/>
        </p:blipFill>
        <p:spPr>
          <a:xfrm>
            <a:off x="990720" y="1371600"/>
            <a:ext cx="653076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Century Gothic"/>
              </a:rPr>
              <a:t>BIOME STRETCHES ACROSS A LARGE AREA OF </a:t>
            </a:r>
            <a:br>
              <a:rPr sz="3200"/>
            </a:br>
            <a:r>
              <a:rPr b="0" lang="en-US" sz="3200" spc="-1" strike="noStrike">
                <a:solidFill>
                  <a:srgbClr val="d6ecff"/>
                </a:solidFill>
                <a:latin typeface="Century Gothic"/>
              </a:rPr>
              <a:t>CANADA, EUROPE, AND ASIA.</a:t>
            </a:r>
            <a:endParaRPr b="0" lang="en-US" sz="3200" spc="-1" strike="noStrike">
              <a:solidFill>
                <a:srgbClr val="d6ecff"/>
              </a:solidFill>
              <a:latin typeface="Century Gothic"/>
            </a:endParaRPr>
          </a:p>
        </p:txBody>
      </p:sp>
      <p:pic>
        <p:nvPicPr>
          <p:cNvPr id="363" name="Picture 5" descr="Taiga"/>
          <p:cNvPicPr/>
          <p:nvPr/>
        </p:nvPicPr>
        <p:blipFill>
          <a:blip r:embed="rId1"/>
          <a:stretch/>
        </p:blipFill>
        <p:spPr>
          <a:xfrm>
            <a:off x="1219320" y="1600200"/>
            <a:ext cx="665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6ecff"/>
                </a:solidFill>
                <a:latin typeface="Century Gothic"/>
              </a:rPr>
              <a:t>TYPES OF ANIMALS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0520" y="838080"/>
            <a:ext cx="8077320" cy="281952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awk Ow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6fb833"/>
              </a:buClr>
              <a:buSzPct val="6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ives in Canada, extreme Northern U.S, Northern Asia, and Scandinavia in open areas of coniferous forest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6fb833"/>
              </a:buClr>
              <a:buSzPct val="6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as a longer tail than the usual ow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6fb833"/>
              </a:buClr>
              <a:buSzPct val="6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ings are short and pointe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6fb833"/>
              </a:buClr>
              <a:buSzPct val="6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unt during the day for mice, lemming, squirrels and other small mammals. They also eat birds and insect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lnSpc>
                <a:spcPct val="80000"/>
              </a:lnSpc>
              <a:spcBef>
                <a:spcPts val="425"/>
              </a:spcBef>
              <a:buClr>
                <a:srgbClr val="6fb833"/>
              </a:buClr>
              <a:buSzPct val="60000"/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425"/>
              </a:spcBef>
              <a:buClr>
                <a:srgbClr val="7fd13b"/>
              </a:buClr>
              <a:buSzPct val="80000"/>
              <a:buFont typeface="Century Gothic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6" name="Picture 5" descr="http://www.birdguides.com/birdnews/docs/OR135175.jpg"/>
          <p:cNvPicPr/>
          <p:nvPr/>
        </p:nvPicPr>
        <p:blipFill>
          <a:blip r:embed="rId1"/>
          <a:stretch/>
        </p:blipFill>
        <p:spPr>
          <a:xfrm>
            <a:off x="1828800" y="3886200"/>
            <a:ext cx="5410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04920" y="380520"/>
            <a:ext cx="4114800" cy="624852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Pine Grosbea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ives in Northern Scandinavia, Russia, Asia, Alaska, Canada, and Northern USA in coniferous and mixed forest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arge, long-tail finc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ses its heavy bill to crush fruit such as cherries and plums. They also eat seeds, buds, and insect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ales and females look different. Females are a more bronzer color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8" name="Picture 5" descr="http://www.roysephotos.com/zzPineGrosbeak6D.jpg"/>
          <p:cNvPicPr/>
          <p:nvPr/>
        </p:nvPicPr>
        <p:blipFill>
          <a:blip r:embed="rId1"/>
          <a:stretch/>
        </p:blipFill>
        <p:spPr>
          <a:xfrm>
            <a:off x="4648320" y="533520"/>
            <a:ext cx="3343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419360" y="228600"/>
            <a:ext cx="3733560" cy="632448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Lynx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Live in Europe: Scandinavia to Spain and Portugal, east through Asia to Siberia, Alaska, Canada, and Northern US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Habitat is Coniferous forests and scrub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hort tails, tufted ears and cheeks, and coat color varie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Becoming scarce- strictly protected in most countries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Nocturnal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talks prey, such as hares rodents young deer and birds, on the ground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0" name="Picture 5" descr="http://www.nature.org/wherewework/northamerica/states/montana/images/lynx_crop_web.jpg"/>
          <p:cNvPicPr/>
          <p:nvPr/>
        </p:nvPicPr>
        <p:blipFill>
          <a:blip r:embed="rId1"/>
          <a:stretch/>
        </p:blipFill>
        <p:spPr>
          <a:xfrm>
            <a:off x="304920" y="685800"/>
            <a:ext cx="399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04560" y="380520"/>
            <a:ext cx="8001000" cy="259092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uropean Red Squirr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ive in Europe, east to China, Korea and Japan in evergreen forest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opulation is abundant in Europe and Asi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at fungi, fruit, and mostly conifer con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2" name="Picture 5" descr="http://ciuk.files.wordpress.com/2007/08/red_squirrel-ray_eye.jpg?w=800&amp;h=543"/>
          <p:cNvPicPr/>
          <p:nvPr/>
        </p:nvPicPr>
        <p:blipFill>
          <a:blip r:embed="rId1"/>
          <a:stretch/>
        </p:blipFill>
        <p:spPr>
          <a:xfrm>
            <a:off x="1523880" y="3200400"/>
            <a:ext cx="5867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28600" y="762120"/>
            <a:ext cx="8305920" cy="548640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ynx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herited wide paws that work like snowshoes to help then more better in snow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Grizzly Bear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herited the ability to hold a protective layer of fat that lets them stay in their dens while its cold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Gray Wolf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herited rough and wooly fur coat to have insulation during the wint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herited long legs and large paws to help them travel through thick snow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nowshoe Rabbi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herited toes that can spread out, making look like a snowshoe that help it walk through snow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228600" y="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ap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46748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ecff"/>
                </a:solidFill>
                <a:latin typeface="Century Gothic"/>
              </a:rPr>
              <a:t>GEOLOGIC FEATURES</a:t>
            </a:r>
            <a:endParaRPr b="0" lang="en-US" sz="4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914400"/>
            <a:ext cx="7162560" cy="266688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ck soil due to col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ntinuous belt of cone- bearing coniferous tre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ome areas of the taiga have a layer of permafrost (permanently frozen layer of soil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oil is very infertile due to acid from conifer needles causing little plant lif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round is made up of various bog stag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7" name="Picture 5" descr="http://www.wildnatureimages.com/S%20to%20Z/TEK-SUMMER-2..jpg"/>
          <p:cNvPicPr/>
          <p:nvPr/>
        </p:nvPicPr>
        <p:blipFill>
          <a:blip r:embed="rId1"/>
          <a:stretch/>
        </p:blipFill>
        <p:spPr>
          <a:xfrm>
            <a:off x="1676520" y="3733920"/>
            <a:ext cx="4800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2:27:47Z</dcterms:created>
  <dc:creator>xpstudent</dc:creator>
  <dc:description/>
  <dc:language>en-US</dc:language>
  <cp:lastModifiedBy>xpstudent</cp:lastModifiedBy>
  <dcterms:modified xsi:type="dcterms:W3CDTF">2010-10-28T12:15:24Z</dcterms:modified>
  <cp:revision>28</cp:revision>
  <dc:subject/>
  <dc:title>Taiga</dc:title>
</cp:coreProperties>
</file>